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2461-EA41-4EDB-861B-017C5EC71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4ED4-1921-4D10-8C5B-610415E44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6045-E250-4265-87C1-68F5A44F7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8FCB-80E8-4A6D-89E6-142DFCAB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F116-B8D9-4D92-ACB4-A85DF2773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808E-795E-40C0-8036-DFCEF384E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7D7D-6A66-4479-98F7-48156A99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F4E9-4BC0-4595-9F8F-2C2015F7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1E1D-D50D-46D8-8B43-72A32CB99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A0A0-D788-4DD7-A6E3-2030606A0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2567-E7BD-4D59-BC76-A93570EF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AFDB-555F-42B9-826F-69D6E3E88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09F-3F26-435A-ABCE-75BD73C2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7B5-EB3F-4443-8A3A-627C3790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486-181F-4307-A55F-D207B6B6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601-0D7B-477A-8021-A7638FB1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F21D-E0EE-4E61-8DC1-27D245A9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97B3-2D44-4604-BD5E-A9CA497E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D68B-60B6-4364-9DCF-5AF06EAC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E27F-3E41-4EFA-B531-2D2F3549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12BF-D854-4903-BAC6-E0544D09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0F2E-3D9D-4378-B9F9-1C656986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3B60-3A12-46AC-AD12-BF4F6D7D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730-4C7B-4BEB-AD6E-50760E3A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0D04-BA6E-4A78-966A-B7B62EC1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ED25-9D46-41E9-A5BE-61F3CAAD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A886-5275-4A4E-8761-1BC3CE6E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1A68-3B8D-4753-94DF-52A1D385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6D02-81B0-47F2-BF2C-F683477B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1FC-4CDA-43A5-A622-40574B64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6F9-D4F2-475B-9916-30F5F67B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1D5-0503-464A-9B87-E7BDC3A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7F6-BF3B-4DA1-B736-1D133609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380-C260-40C7-B72F-0EF4576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4E4-FC82-4B71-9693-E086F2AA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6A9-C9A1-4F4A-88DE-429DE1BE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D568-CF0E-4F1B-8194-76171202B4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065F-D263-4D0C-9A8A-305EC85DAF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else can you do 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how much reactant is in excess once the reaction is carri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Calculate the actual amount of the excess reactant that is required by using the given quantity of the limiting react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Calculate the difference between the amount of the excess reactant required and the amount that is giv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0" y="762120"/>
            <a:ext cx="9144000" cy="65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lorine is used by textile manufacturers to bleach cloth.  Excess chlorine is destroyed by its reaction with sodium thiosulfate,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__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__NaHS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H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is the mole ratio 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the balanced chemical equa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many grams sodium thiosulfate is needed to completely destroy 103g of chlorin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s 75g of 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dequate quantity to destroy 35g of 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ich reactant is in excess?  And how much is left over after the reaction occur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ichiometric calculations provide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oretical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maximum amount of product that can be produced from a given amount of reactan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ual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mount that is actually produced when a reaction is carried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cent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lects the ratio of the theoretical and actual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838080" y="5715000"/>
                <a:ext cx="74678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cent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Yiel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perimen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heoreticalYiel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oichiometr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 Yield Probl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anol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) is produced from the fermentation of sucr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theoretical and percent yields of ethanol if 684g sucrose undergoes fermentation and 349g of ethanol are obt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609480" y="2743200"/>
                <a:ext cx="6140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Top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on of mass and the balanced chemica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 ratios in a chemica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ic calculations involving reactants an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Stoichiometr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 is the study of quantitative relationships between amounts of reactants used and products formed by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l_product_image"/>
          <p:cNvPicPr/>
          <p:nvPr/>
        </p:nvPicPr>
        <p:blipFill>
          <a:blip r:embed="rId1"/>
          <a:stretch/>
        </p:blipFill>
        <p:spPr>
          <a:xfrm>
            <a:off x="2666880" y="3556080"/>
            <a:ext cx="34290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ctical Applications of Stoichiome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pacecraft, the carbon dioxide exhaled by astronauts can be removed by its reaction with lithium hydroxide, LiOH, according to the following chemical equ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LiOH(s)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lithium hydroxide are required to react with 20 mol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average amount exhaled by a person each 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ategy – Relate everything to the mo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mole01"/>
          <p:cNvPicPr/>
          <p:nvPr/>
        </p:nvPicPr>
        <p:blipFill>
          <a:blip r:embed="rId1"/>
          <a:stretch/>
        </p:blipFill>
        <p:spPr>
          <a:xfrm>
            <a:off x="6019920" y="1371600"/>
            <a:ext cx="2971800" cy="2048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533520" y="19051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le is the common thread that links reactants to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838080" y="365760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H(s)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41148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96252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457200" y="5181480"/>
                <a:ext cx="1523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3"/>
              <p:cNvSpPr txBox="1"/>
              <p:nvPr/>
            </p:nvSpPr>
            <p:spPr>
              <a:xfrm>
                <a:off x="2057400" y="5181480"/>
                <a:ext cx="1601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3849840" y="5143680"/>
                <a:ext cx="12920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5"/>
              <p:cNvSpPr txBox="1"/>
              <p:nvPr/>
            </p:nvSpPr>
            <p:spPr>
              <a:xfrm>
                <a:off x="5219640" y="5143680"/>
                <a:ext cx="1602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6"/>
              <p:cNvSpPr txBox="1"/>
              <p:nvPr/>
            </p:nvSpPr>
            <p:spPr>
              <a:xfrm>
                <a:off x="7012080" y="5105520"/>
                <a:ext cx="15224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ole Super Highw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895480" y="3886200"/>
            <a:ext cx="78120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244520" y="5394240"/>
            <a:ext cx="81288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066680" y="19051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1717200" y="4219560"/>
            <a:ext cx="1351080" cy="11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1919160" y="4289400"/>
            <a:ext cx="125748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2205000" y="2322360"/>
            <a:ext cx="1047960" cy="16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 flipH="1" flipV="1">
            <a:off x="2271600" y="2206800"/>
            <a:ext cx="1038240" cy="164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09480" y="4395960"/>
            <a:ext cx="163692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molar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09480" y="3067200"/>
            <a:ext cx="2019600" cy="30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6.02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5715000" y="3809880"/>
            <a:ext cx="86688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750080" y="5308560"/>
            <a:ext cx="7844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261200" y="2038320"/>
            <a:ext cx="11970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154560" y="4238640"/>
            <a:ext cx="1581480" cy="11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 flipV="1">
            <a:off x="6214680" y="4146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6072120" y="2370240"/>
            <a:ext cx="120960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6157800" y="2396880"/>
            <a:ext cx="122868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010280" y="4281480"/>
            <a:ext cx="160020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molar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6829560" y="3171960"/>
            <a:ext cx="20192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6.02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4162320" y="4344840"/>
            <a:ext cx="12286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3581280" y="4038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 flipH="1">
            <a:off x="3580920" y="4191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4495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ss of oxygen is needed to fully combust 12.5g etha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752480" y="4952880"/>
                <a:ext cx="4978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09480" y="1371600"/>
            <a:ext cx="7696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moles of water are formed when 3.8 moles of Hydrogen react with an excess of Oxy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ass of the water form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miting Reac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reactions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57200" y="2057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 all of the reactants get used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33520" y="2666880"/>
            <a:ext cx="81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miting React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mit the extent of the reaction and thereby determines the amount of th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over reactant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cess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07-Tam-line-out-boys"/>
          <p:cNvPicPr/>
          <p:nvPr/>
        </p:nvPicPr>
        <p:blipFill>
          <a:blip r:embed="rId1"/>
          <a:stretch/>
        </p:blipFill>
        <p:spPr>
          <a:xfrm>
            <a:off x="1143000" y="43434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News1_4"/>
          <p:cNvPicPr/>
          <p:nvPr/>
        </p:nvPicPr>
        <p:blipFill>
          <a:blip r:embed="rId2"/>
          <a:stretch/>
        </p:blipFill>
        <p:spPr>
          <a:xfrm>
            <a:off x="4800600" y="4357800"/>
            <a:ext cx="243828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you determine which reactant is limite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200g of sulfur reacts with 100g of chlorine, what mass of disulfur dichloride is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oles of the reactants based on their m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f the two reactants are in the correct mole ratio as given by the balanced chemical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number of moles of the limiting reaction as your given value to calculate the mass of the product that could be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2590920" y="1143000"/>
                <a:ext cx="36702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1:59:06Z</dcterms:created>
  <dc:creator>Dawn Pav</dc:creator>
  <dc:description/>
  <dc:language>en-US</dc:language>
  <cp:lastModifiedBy>Dawn</cp:lastModifiedBy>
  <dcterms:modified xsi:type="dcterms:W3CDTF">2011-04-24T16:36:14Z</dcterms:modified>
  <cp:revision>10</cp:revision>
  <dc:subject/>
  <dc:title>Chapter 12</dc:title>
</cp:coreProperties>
</file>